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1006-DA7B-4641-9D4A-E285B09D0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3D80-43E7-4512-9221-58ADD21D8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510B-2F4B-4CCA-9DDF-76752E193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A5CB-8C16-4857-8D08-DA49DD4D1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EC47-10D7-45A9-85D9-2AFEA5734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6F7C-7704-4E20-8837-02AF81994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4E43-1EFD-495D-98E9-0627DE371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42E8-6D60-454E-9323-57ADB9C28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D09B-1815-40D7-B125-4A554488E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89F6-DCBF-4596-AAA4-8A0310583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1335-65D2-478D-B47E-528462B67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0B30-3C65-4B41-AB25-5B990AFE7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B4B0-6C1A-41F3-BB67-0A6132F49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78DC-D7F8-4E07-87DE-A92FD42FF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8BD6-C805-4B6C-A756-5957CD48C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3502-B051-4FB6-B0D4-1D61D4224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2BA2-3123-47C7-A69B-93EA14A1B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CF66-47F6-470E-A1A1-16899F3D0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9286-9945-4A5A-9B69-0C39F35D9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3F5C-CC6B-4B15-8038-973908D3C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55FF-72A3-4AAC-8051-AB4B224C0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36FC-4BA1-4194-808B-E90017369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B414-CEF1-4B0E-8120-33D181F2B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D178-DD77-4F94-A025-B8A8E618A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6E92-D6F9-412B-9C2B-7AA100793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EDF2-D01A-4A42-8158-4FA8B0689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30DF-431C-41B9-BCC2-5FF8A07E7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7BFC-D84A-49B7-85AA-5BAC64BEA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1B02-9263-4317-909A-3E508B658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85BD-B8B1-4B8A-95E9-20EFD4620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AE6A-42B5-4792-BFE3-4A6F3B8BE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6E1C-79C2-4D7F-8A5C-11609B7CD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53CE-741D-4C7A-B194-F007C3465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8E39-8D56-40BA-AE3E-81E800814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C64F-3037-4FD6-9E75-9E548272C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1F16-E900-42B8-90C5-3D930B5FD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8821-7C44-4D07-85F8-A236E525C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DB8A-16DE-469E-8845-17800138D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EA25-C266-4206-B9E8-0A7D8CCEA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642B-B116-4560-94E0-59AB4D96A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AA11-23C9-4B60-9B91-BDB8162AB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28D6-9218-4F34-96D6-09039A905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9835-CCAC-4354-B3FC-628FE8573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42E6-810B-4DE5-AD71-E329059A4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3629-52E9-47DE-824E-5D95D8194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CB0B-EBB3-4444-88C5-F7D5B0E48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3182-AC0C-47FE-9605-E5EC5950C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0670-DF8C-42B0-A0DA-1DC6E5B77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CE3F-8D5B-441D-BA5E-05EB7CB3D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0F6D-B481-4F76-9075-9E149B38B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E5DF-7DC7-494C-ADC9-EC1F6DA3A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5B88-9678-4789-B274-96FDEBFFD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293E-D7B8-4115-B585-4A28A1F37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7818-3CB8-48F7-AF3F-C2B1E5B75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3991-E083-42C9-B0A9-1BA00AB4C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F1EB-2F31-4028-8BF1-03B3B3A88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415F-40A8-4C4D-8AE7-2B6D3CBB2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3777-F2B7-4F62-A76E-29B7E4CC4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C947-119D-4B7C-B7A5-EDEA60DDA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2301-CCA3-4586-9CF0-2F3475B0C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CD96-0C49-4B7F-8748-CCF549CC3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A23B-9CC7-4F3C-A8AF-47FE8387F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9051-0F63-4B5D-AE02-40E4597F6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9B00-DA85-4A35-9A00-CCAACC8E9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78AD-8695-469F-866D-5D6404B5E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0DFA-D66B-4930-B1C5-F9A393B65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4C3A-0301-4288-A95C-80A3EBCD5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8671-1FD5-4FB6-9C7F-6BD42AC93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129D-2397-4F6E-8235-02A8A09AD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4710-437B-411E-B290-C071A2276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D0CF-5AFF-48FC-9238-1209342F0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32C4-4491-4875-8640-4CBCDE5CC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3971-4972-49BD-8FBA-EA998B651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6089-EB23-4099-9B99-AFDC2E57F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AFF8-8871-45B1-B61B-9C0FE6176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53E4-F777-44A7-A308-622ED258E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4089-6248-43A6-82FE-F5DBBCFC6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EBE3-970F-4FE1-9EDD-F3C2F31CF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D552-DDFF-499E-9684-85F04134C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4C6A-0823-46B8-90E6-A279B8569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08B2-A6BD-42B3-B215-151ED5CA4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7A5C-FD15-4844-A434-916A30FA4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6549-222A-4779-890E-0331440D2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A37C-2708-4208-8B67-344BBD974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5473-F1D9-49BD-9A58-A61AA7A93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8184-D061-4753-8B20-EDF1C2ABE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2843-C5CE-4AB0-82C5-31DE5A69F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D06E-DEC4-48A4-9EB9-CDFB2E31E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0619-A1FD-46C4-8003-EBC223DE4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BC36-3C21-4E73-A2BD-46343931E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F8DF-3428-4595-A584-AE797BF28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7230-8E5A-49A7-9EB1-09547F546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3DB2-D228-4E06-8D37-51B4C713B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804E-D7E0-42A9-893B-D99CD175A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A089-0B26-4F38-9F6C-C9CC6E9FD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3C7C-8616-4FE8-823F-3E3041932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D00D-7A50-4D66-8879-65DF2F624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AB1A-B2A2-44A6-A9B0-BE8A9EF96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4DDE-8259-4482-B6F8-96364A741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1678-A210-41DA-B5C4-7870B7D6D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E2F4-ACD4-465E-8C96-CD9C253C1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A2F9-F473-4FAD-B6B8-3F209A69E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97EB-B4DD-452A-8244-B4B26249C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C937-9715-4D34-8538-9FC26936A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0344-014F-4009-A9E1-08E6ECC5C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EAAB-4EC4-452D-953E-BE139581F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6881-C3B5-4B61-809B-5FA6F13F8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C15A-C7B3-4A9E-945C-5BC1A6083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3298-93E6-44E1-9857-52674C8D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62BC-9C76-4A67-8DB3-9052F48E2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931C-CA2F-41DE-A902-7A87A4B67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EB59-E7C6-4177-817A-37438540F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EBD1-2EE0-4649-8F9F-E284B5765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C36B-6D99-451D-8482-155D5E301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3388-C0EE-4735-964B-B4AF586B3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8A38-2211-4592-9698-A9C23DFD3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D704-5A8C-45C9-9EEA-4F7544C64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6D74-47DA-4C05-B1B9-BD708BF70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372B-67FB-47BC-94AA-7247080F4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D9E4-9547-474A-AFB0-1D16F4288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ADA2-1DF9-4A81-9122-5D8DF524A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3414-687A-428F-A891-8FC9FB1AD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6292-8B53-4CBA-9832-35753FE2F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4DBB-28FC-4758-8173-A5E7D45F7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BBDF-33D2-4F01-8CD0-0D26C0D55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F5BA-2D0F-467A-81BC-974F97949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A70D-C15E-485D-BA6D-AD361482A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BC14-0A84-46AB-887C-C55B05740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BB1C-795E-42A8-9AD6-121BBD179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0193-5F75-4725-8700-2403C99E9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4FC6-8CFC-4584-8444-CA016EEE0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500C-8255-4EFB-853A-499836DF2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CCB8-5DF0-4027-9A36-514FA2C06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A5D9-4B8F-4AE1-996C-51C5BFFEB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C06C-CE88-4D1D-B978-579DF1F5D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2D7A-E6D7-47D7-B746-6A4DF8EC9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9641-B5E2-4C8B-BADF-641F6CB60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240F-C7F1-48B8-A005-80885FD2A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FA35-B660-4E14-A9E8-2C78E6E15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B550-BD3C-4EB8-99FF-CD628B906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54F4-310A-4C11-ADA7-DF0D766C8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84C3-681D-45C6-BBAE-A215E4842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C7B1-74BD-42AB-8932-F7C9A191E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BAF4-EB0A-4FBC-9ABA-B76ADC3E2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39A0-E646-447D-A5A2-FD472B0F0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0E12-76D7-422A-A522-10F38F7BA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6196-C22F-4E27-80CB-0672621DD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E965-98E0-448E-B8D3-CDD5445E3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25DC-2B15-4D58-B304-ACE9B4797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D18F-47DC-4757-93DE-30FBE71E2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C3A8-3907-41AE-8ECC-370A591D8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5630-EE82-4538-BBFE-884591EC2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47E4-7E2C-4E00-A0A3-221326674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EB40-5527-4BE5-8BAD-35E03C4BC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B454-5680-40BB-A324-E0E46E3DB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99BE-A6DF-4EAC-B421-BD2C793AC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104A-44D8-405B-8B5A-CE83ABC4B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FD5F-1DA7-4CD1-A9F8-D7BE9B599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8F74-3130-49A8-9D70-96098C5EE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414E-55E8-40A4-B9A5-6AD1178D3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82DC-88F6-46EA-9591-196DFEF5A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51C3-F11B-4078-985B-61E33AE48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4874-EF9B-44B2-86AF-88DAC268D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B3C9-66AD-4715-B92D-ED3DA33A6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EFA1-E422-4B4D-973A-FEE82C8DA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0EB4-62D7-481A-BA78-ACE53CF01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7F56-74C3-40FF-85C0-A8070EC34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6342-1E9B-4150-A487-BC960919E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2074-391C-4622-8A54-8A4494FD5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81E3-CD4E-46A7-83EA-DDDEAD2C5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78BC-DC31-4D4B-B49A-EB21C7E50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5487-889B-4B3D-815D-20EF9D08F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B859-AB88-4600-8090-B2F10C2C0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1D0C-8BA9-401C-91BA-9CB918F27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3504-8C0C-44A5-B177-D34BA04F1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B8CB-EE0E-4369-AD95-18F3F63F5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7943-61B2-48BA-BFBD-A0B47FDAB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546F-451F-4A1F-921B-56EBCD9E9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BA00-A369-4337-8338-131672137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650E-81B0-492D-9272-96CBC2731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AB34-D778-44B7-AA26-A99810C87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685D-0D4D-42E1-AFEA-56101783B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4758-C327-4B82-8F9F-1C8BA5C1F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D40B-CA81-496B-9A6C-266B968F2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99F9-137B-4B06-87D9-959D687EA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87EF-8A0C-475B-A6C8-64AE137D9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2F4F-30FE-469B-9EE2-21ADB9AC5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6F56-19EE-4F5B-9E2E-1919FAAB4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71C9-31BF-4915-877F-9E042C952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13A4-5CBE-4B19-8438-9A6D906CC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9323-CC9A-4352-828A-EB37C750C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1955-64EE-4161-A436-2635060FE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98C2-24FB-4ABA-82DE-4FE82B5ED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28C2-A760-409C-A54D-562F71B37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7C45-9342-4876-888B-3626605E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5CA-A9F0-4364-A7A6-9ABD3AA9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91A-F2AD-41AF-94EE-F5A2B726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526-4E10-4A81-A416-9DD23C23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403-9EEB-4486-9D6B-B9CCDC2C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DE3-26A0-4399-B855-72A28FBA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F78-6696-4800-87A2-52CAEC56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118-A327-44AD-B3B0-03BD6694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F94-DE7E-432F-8E30-70EB981E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E47-629A-4299-9EB1-48004587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B02-B49C-477F-A3B5-365EF4AD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747-F05E-4B4D-986B-BCF396AE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76D4-5A7C-4266-A462-179658F53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7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" Target="slide102.xml"/><Relationship Id="rId102" Type="http://schemas.openxmlformats.org/officeDocument/2006/relationships/slide" Target="slide103.xml"/><Relationship Id="rId103" Type="http://schemas.openxmlformats.org/officeDocument/2006/relationships/slide" Target="slide104.xml"/><Relationship Id="rId104" Type="http://schemas.openxmlformats.org/officeDocument/2006/relationships/slide" Target="slide105.xml"/><Relationship Id="rId105" Type="http://schemas.openxmlformats.org/officeDocument/2006/relationships/slide" Target="slide106.xml"/><Relationship Id="rId106" Type="http://schemas.openxmlformats.org/officeDocument/2006/relationships/slide" Target="slide107.xml"/><Relationship Id="rId107" Type="http://schemas.openxmlformats.org/officeDocument/2006/relationships/slide" Target="slide108.xml"/><Relationship Id="rId108" Type="http://schemas.openxmlformats.org/officeDocument/2006/relationships/slide" Target="slide109.xml"/><Relationship Id="rId109" Type="http://schemas.openxmlformats.org/officeDocument/2006/relationships/slide" Target="slide110.xml"/><Relationship Id="rId110" Type="http://schemas.openxmlformats.org/officeDocument/2006/relationships/slide" Target="slide111.xml"/><Relationship Id="rId111" Type="http://schemas.openxmlformats.org/officeDocument/2006/relationships/slide" Target="slide112.xml"/><Relationship Id="rId112" Type="http://schemas.openxmlformats.org/officeDocument/2006/relationships/slide" Target="slide113.xml"/><Relationship Id="rId113" Type="http://schemas.openxmlformats.org/officeDocument/2006/relationships/slide" Target="slide114.xml"/><Relationship Id="rId114" Type="http://schemas.openxmlformats.org/officeDocument/2006/relationships/slide" Target="slide115.xml"/><Relationship Id="rId115" Type="http://schemas.openxmlformats.org/officeDocument/2006/relationships/slide" Target="slide116.xml"/><Relationship Id="rId116" Type="http://schemas.openxmlformats.org/officeDocument/2006/relationships/slide" Target="slide117.xml"/><Relationship Id="rId117" Type="http://schemas.openxmlformats.org/officeDocument/2006/relationships/slide" Target="slide118.xml"/><Relationship Id="rId118" Type="http://schemas.openxmlformats.org/officeDocument/2006/relationships/slide" Target="slide119.xml"/><Relationship Id="rId119" Type="http://schemas.openxmlformats.org/officeDocument/2006/relationships/slide" Target="slide120.xml"/><Relationship Id="rId120" Type="http://schemas.openxmlformats.org/officeDocument/2006/relationships/slide" Target="slide121.xml"/><Relationship Id="rId121" Type="http://schemas.openxmlformats.org/officeDocument/2006/relationships/slide" Target="slide122.xml"/><Relationship Id="rId122" Type="http://schemas.openxmlformats.org/officeDocument/2006/relationships/slide" Target="slide123.xml"/><Relationship Id="rId123" Type="http://schemas.openxmlformats.org/officeDocument/2006/relationships/slide" Target="slide124.xml"/><Relationship Id="rId124" Type="http://schemas.openxmlformats.org/officeDocument/2006/relationships/slide" Target="slide125.xml"/><Relationship Id="rId125" Type="http://schemas.openxmlformats.org/officeDocument/2006/relationships/slide" Target="slide126.xml"/><Relationship Id="rId126" Type="http://schemas.openxmlformats.org/officeDocument/2006/relationships/slide" Target="slide127.xml"/><Relationship Id="rId127" Type="http://schemas.openxmlformats.org/officeDocument/2006/relationships/slide" Target="slide128.xml"/><Relationship Id="rId128" Type="http://schemas.openxmlformats.org/officeDocument/2006/relationships/slide" Target="slide129.xml"/><Relationship Id="rId129" Type="http://schemas.openxmlformats.org/officeDocument/2006/relationships/slide" Target="slide130.xml"/><Relationship Id="rId130" Type="http://schemas.openxmlformats.org/officeDocument/2006/relationships/slide" Target="slide131.xml"/><Relationship Id="rId131" Type="http://schemas.openxmlformats.org/officeDocument/2006/relationships/slide" Target="slide132.xml"/><Relationship Id="rId132" Type="http://schemas.openxmlformats.org/officeDocument/2006/relationships/slide" Target="slide133.xml"/><Relationship Id="rId133" Type="http://schemas.openxmlformats.org/officeDocument/2006/relationships/slide" Target="slide134.xml"/><Relationship Id="rId134" Type="http://schemas.openxmlformats.org/officeDocument/2006/relationships/slide" Target="slide135.xml"/><Relationship Id="rId135" Type="http://schemas.openxmlformats.org/officeDocument/2006/relationships/slide" Target="slide136.xml"/><Relationship Id="rId136" Type="http://schemas.openxmlformats.org/officeDocument/2006/relationships/slide" Target="slide137.xml"/><Relationship Id="rId137" Type="http://schemas.openxmlformats.org/officeDocument/2006/relationships/slide" Target="slide138.xml"/><Relationship Id="rId138" Type="http://schemas.openxmlformats.org/officeDocument/2006/relationships/slide" Target="slide139.xml"/><Relationship Id="rId139" Type="http://schemas.openxmlformats.org/officeDocument/2006/relationships/slide" Target="slide140.xml"/><Relationship Id="rId140" Type="http://schemas.openxmlformats.org/officeDocument/2006/relationships/slide" Target="slide141.xml"/><Relationship Id="rId141" Type="http://schemas.openxmlformats.org/officeDocument/2006/relationships/slide" Target="slide142.xml"/><Relationship Id="rId142" Type="http://schemas.openxmlformats.org/officeDocument/2006/relationships/slide" Target="slide143.xml"/><Relationship Id="rId143" Type="http://schemas.openxmlformats.org/officeDocument/2006/relationships/slide" Target="slide144.xml"/><Relationship Id="rId144" Type="http://schemas.openxmlformats.org/officeDocument/2006/relationships/slide" Target="slide145.xml"/><Relationship Id="rId145" Type="http://schemas.openxmlformats.org/officeDocument/2006/relationships/slide" Target="slide146.xml"/><Relationship Id="rId146" Type="http://schemas.openxmlformats.org/officeDocument/2006/relationships/slide" Target="slide147.xml"/><Relationship Id="rId147" Type="http://schemas.openxmlformats.org/officeDocument/2006/relationships/slide" Target="slide148.xml"/><Relationship Id="rId148" Type="http://schemas.openxmlformats.org/officeDocument/2006/relationships/slide" Target="slide149.xml"/><Relationship Id="rId149" Type="http://schemas.openxmlformats.org/officeDocument/2006/relationships/slide" Target="slide150.xml"/><Relationship Id="rId150" Type="http://schemas.openxmlformats.org/officeDocument/2006/relationships/slide" Target="slide151.xml"/><Relationship Id="rId151" Type="http://schemas.openxmlformats.org/officeDocument/2006/relationships/slide" Target="slide152.xml"/><Relationship Id="rId152" Type="http://schemas.openxmlformats.org/officeDocument/2006/relationships/slide" Target="slide153.xml"/><Relationship Id="rId153" Type="http://schemas.openxmlformats.org/officeDocument/2006/relationships/slide" Target="slide154.xml"/><Relationship Id="rId154" Type="http://schemas.openxmlformats.org/officeDocument/2006/relationships/slide" Target="slide155.xml"/><Relationship Id="rId155" Type="http://schemas.openxmlformats.org/officeDocument/2006/relationships/slide" Target="slide156.xml"/><Relationship Id="rId156" Type="http://schemas.openxmlformats.org/officeDocument/2006/relationships/slide" Target="slide157.xml"/><Relationship Id="rId157" Type="http://schemas.openxmlformats.org/officeDocument/2006/relationships/slide" Target="slide158.xml"/><Relationship Id="rId158" Type="http://schemas.openxmlformats.org/officeDocument/2006/relationships/slide" Target="slide159.xml"/><Relationship Id="rId159" Type="http://schemas.openxmlformats.org/officeDocument/2006/relationships/slide" Target="slide160.xml"/><Relationship Id="rId160" Type="http://schemas.openxmlformats.org/officeDocument/2006/relationships/slide" Target="slide161.xml"/><Relationship Id="rId161" Type="http://schemas.openxmlformats.org/officeDocument/2006/relationships/slide" Target="slide162.xml"/><Relationship Id="rId162" Type="http://schemas.openxmlformats.org/officeDocument/2006/relationships/slide" Target="slide163.xml"/><Relationship Id="rId163" Type="http://schemas.openxmlformats.org/officeDocument/2006/relationships/slide" Target="slide164.xml"/><Relationship Id="rId164" Type="http://schemas.openxmlformats.org/officeDocument/2006/relationships/slide" Target="slide165.xml"/><Relationship Id="rId165" Type="http://schemas.openxmlformats.org/officeDocument/2006/relationships/slide" Target="slide166.xml"/><Relationship Id="rId166" Type="http://schemas.openxmlformats.org/officeDocument/2006/relationships/slide" Target="slide167.xml"/><Relationship Id="rId167" Type="http://schemas.openxmlformats.org/officeDocument/2006/relationships/slide" Target="slide168.xml"/><Relationship Id="rId168" Type="http://schemas.openxmlformats.org/officeDocument/2006/relationships/slide" Target="slide169.xml"/><Relationship Id="rId169" Type="http://schemas.openxmlformats.org/officeDocument/2006/relationships/slide" Target="slide170.xml"/><Relationship Id="rId170" Type="http://schemas.openxmlformats.org/officeDocument/2006/relationships/slide" Target="slide171.xml"/><Relationship Id="rId171" Type="http://schemas.openxmlformats.org/officeDocument/2006/relationships/slide" Target="slide172.xml"/><Relationship Id="rId172" Type="http://schemas.openxmlformats.org/officeDocument/2006/relationships/slide" Target="slide173.xml"/><Relationship Id="rId173" Type="http://schemas.openxmlformats.org/officeDocument/2006/relationships/slide" Target="slide174.xml"/><Relationship Id="rId174" Type="http://schemas.openxmlformats.org/officeDocument/2006/relationships/slide" Target="slide175.xml"/><Relationship Id="rId175" Type="http://schemas.openxmlformats.org/officeDocument/2006/relationships/slide" Target="slide176.xml"/><Relationship Id="rId176" Type="http://schemas.openxmlformats.org/officeDocument/2006/relationships/slide" Target="slide177.xml"/><Relationship Id="rId177" Type="http://schemas.openxmlformats.org/officeDocument/2006/relationships/slide" Target="slide178.xml"/><Relationship Id="rId178" Type="http://schemas.openxmlformats.org/officeDocument/2006/relationships/slide" Target="slide179.xml"/><Relationship Id="rId179" Type="http://schemas.openxmlformats.org/officeDocument/2006/relationships/slide" Target="slide180.xml"/><Relationship Id="rId180" Type="http://schemas.openxmlformats.org/officeDocument/2006/relationships/slide" Target="slide181.xml"/><Relationship Id="rId181" Type="http://schemas.openxmlformats.org/officeDocument/2006/relationships/slide" Target="slide182.xml"/><Relationship Id="rId182" Type="http://schemas.openxmlformats.org/officeDocument/2006/relationships/slide" Target="slide183.xml"/><Relationship Id="rId183" Type="http://schemas.openxmlformats.org/officeDocument/2006/relationships/slide" Target="slide184.xml"/><Relationship Id="rId184" Type="http://schemas.openxmlformats.org/officeDocument/2006/relationships/slide" Target="slide185.xml"/><Relationship Id="rId185" Type="http://schemas.openxmlformats.org/officeDocument/2006/relationships/slide" Target="slide186.xml"/><Relationship Id="rId186" Type="http://schemas.openxmlformats.org/officeDocument/2006/relationships/slide" Target="slide187.xml"/><Relationship Id="rId187" Type="http://schemas.openxmlformats.org/officeDocument/2006/relationships/slide" Target="slide188.xml"/><Relationship Id="rId188" Type="http://schemas.openxmlformats.org/officeDocument/2006/relationships/slide" Target="slide189.xml"/><Relationship Id="rId189" Type="http://schemas.openxmlformats.org/officeDocument/2006/relationships/slide" Target="slide190.xml"/><Relationship Id="rId190" Type="http://schemas.openxmlformats.org/officeDocument/2006/relationships/slide" Target="slide191.xml"/><Relationship Id="rId191" Type="http://schemas.openxmlformats.org/officeDocument/2006/relationships/slide" Target="slide192.xml"/><Relationship Id="rId192" Type="http://schemas.openxmlformats.org/officeDocument/2006/relationships/slide" Target="slide193.xml"/><Relationship Id="rId193" Type="http://schemas.openxmlformats.org/officeDocument/2006/relationships/slideLayout" Target="../slideLayouts/slideLayout1.xml"/><Relationship Id="rId19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172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verage temperature and rainfall of an area over many year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system of measur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r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one thousand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ll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ount of space an object takes up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, often in the form of facts and figures, obtained from experiments or survey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ol that uses a combination of lenses to make distant objects appear larger and near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lesc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4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4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able to be seen throug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a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1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an object that is a measure of the amount of matter an object ha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9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stance an object moves over a given amount of tim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munity of organisms and its environ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8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0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lace where a person or thing i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ty of magnetism, a force drawing objects together and resisting separ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traction (magnet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 that feeds on dead organis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ompos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29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ct of being on fire so as to give off hea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9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sure of the force of gravity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go back to the original shape or size after being stretched, pressed, or squeezed toge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astic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or object that does not allow electricity, heat, or sound to pass through it eas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lat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s that eats other organisms to get energ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um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ement giving reasons for information obtained from experim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n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8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9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0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ility of an organism to stay ali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viv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temperature. (Non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hrenh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haracteristic that is passed from parent to offspr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erited characteris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21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1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4" dur="77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5" dur="770" fill="hold"/>
                                        <p:tgtEl>
                                          <p:spTgt spid="6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7" dur="77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9" dur="77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or object that can allow electricity, heat, or sound to pass through it eas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duct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steps, done in a particular order, to answer testable (scientific) ques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2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9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s all light to pass through, and objects can be clearly seen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ar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ty of magnetism, a force pushing objects apart and resisting attrac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ulsion ( Magnet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77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0" dur="770" fill="hold"/>
                                        <p:tgtEl>
                                          <p:spTgt spid="7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2" dur="77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4" dur="77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sure of how hot or cold something i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omething looks, smells, feels, Ex. Color, texture, floating, weight, o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rce that resists motion between objects that are touching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i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1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7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rce on an object to move the object towards oneself or the cause of the for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ush or a pu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8" dur="indefinite" restart="never" nodeType="tmRoot">
          <p:childTnLst>
            <p:seq>
              <p:cTn id="1569" dur="indefinite" nodeType="mainSeq">
                <p:childTnLst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7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quence of who eats whom in a biological commun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1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4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4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ay something work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7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4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4"/>
          <p:cNvSpPr/>
          <p:nvPr/>
        </p:nvSpPr>
        <p:spPr>
          <a:xfrm>
            <a:off x="1447920" y="2057400"/>
            <a:ext cx="6248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wo or more things are combined, but the things do not chan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. cement, trail mix, sa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x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5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ol that uses a combination of lenses to produce a greatly magnified image of an object to small to be seen by the naked ey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sc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1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2" dur="indefinite" restart="never" nodeType="tmRoot">
          <p:childTnLst>
            <p:seq>
              <p:cTn id="1663" dur="indefinite" nodeType="mainSeq">
                <p:childTnLst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47920" y="2057400"/>
            <a:ext cx="62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estion that can be answered through an investigation where one part of an experiment is allowed to change and all other parts are kept the s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447920" y="42670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ble 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mount or number of some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ntit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volume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mount of size determined by comparison with a known quant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asic force that attracts all objects to each o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v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plete path along which electricity moves. (closed loop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ical circu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ges that an organism goes through as it grows and matur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Cyc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thing that has mass and takes up spa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roup of organisms that live together and share resour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ropping of eroded soil and rock pieces in a new pla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os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temperature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si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ool to measure temperatu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 of the size of an object. (length, width, heigh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mens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thing you can observe about an object that can be used to describe the objec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turn of information about the result of a scientific investigation which modify, correct, or strengthen the investig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447920" y="42670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ose material in which plants can grow in the upper layer of Ear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i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arth material made up of different ingredients called minera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c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6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s that make their own foo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er that takes the shape and volume of its container. Ex. – 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ay something is put toge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length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s caused by vibrations through a material which can be heard when they reach a person’s or animal’s e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s some light to pass, but does not produce detailed imag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luc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that cannot be separated into other kinds of matter by any physical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e subst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rce on an object to move the object away from oneself or the cause of for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rce of push and pull between poles of magnet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gnet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3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made to organisms to help it meet its nee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ement of Earth materials by water, wind, or i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o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atural liquid material made up of hydrogen and oxyg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measurable object, condition, or event, which can be chang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5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sic Earth material; a rock ingredient that cannot be physically broken down any fur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controlled steps, which can be repeated, for the purpose of answering a testable ques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gation (Experi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8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 by which rocks are broken down into smaller pie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athe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ayer of air that surrounds Ear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mosp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nd back, for example when light bounces off an object that it does not go throug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6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1T01:07:29Z</dcterms:created>
  <dc:creator>Westside Community Schools</dc:creator>
  <dc:description/>
  <dc:language>en-US</dc:language>
  <cp:lastModifiedBy>Mr. Zoubek</cp:lastModifiedBy>
  <dcterms:modified xsi:type="dcterms:W3CDTF">2012-12-31T02:52:21Z</dcterms:modified>
  <cp:revision>9</cp:revision>
  <dc:subject/>
  <dc:title>PowerPoint Presentation</dc:title>
</cp:coreProperties>
</file>